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A88364-EDBB-4419-9B63-91C48D68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 of this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help teachers take advantage of the various ways technology can help differentiate 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many ways to approach D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esentation will attempt two meet two objectiv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some of the fundamental concepts behind 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 some connections with technology resources that are available in your schools today and how they can be incorporated in your diff inst lesson pla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Click this page Sarah It is auto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esent content that is related to broad based issues, themes, or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grate multiple disciplines &amp; experience into the area of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ow in-depth learning of self-selected topic in area of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understanding of self as gif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independent or self-directed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productive, complex, abstract and higher thinking level ski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research skills and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cus on open ended tas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development of products that challenge existing ideas and produce new idea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courage development of products that use new techniques, materials, for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valuate student outcomes through self appraisals, criterion referenced and/or  standardardized instrum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 the student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up kids in mixed ability or homogeneous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al/Linguisitic, Logical Mathematic, Visu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ial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iness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, at, or above grad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areas of personal interest for the student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an interest surv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way to plan for tech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stepped approach to planning helps to simplify the process for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a lesson that would benefit from the inclusion of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lessons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you want to differentiate the content, process or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you be differentiating by learning style (multiple modalities),  readiness (mastery level of skills), or interest level (student engag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rategies will you incorporate to achieve the best results (tiered lessons, flexible grouping, reading buddie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the next several weeks Iris and I will be demonstrating several technology programs that can be helpful to you as a classroom teac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ill be using a broad brush on the topic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401840" y="1317600"/>
            <a:ext cx="4336920" cy="2230560"/>
          </a:xfrm>
          <a:prstGeom prst="rect">
            <a:avLst/>
          </a:prstGeom>
          <a:ln w="0">
            <a:noFill/>
          </a:ln>
        </p:spPr>
      </p:pic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AC9-5153-48E2-A5D8-15BB6121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252-A22A-4F7F-98D6-642BD32C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36A-2937-4886-A7CC-569E007D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627-599E-4E33-9717-CD06F586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0BB-640D-4A51-90C4-4ABA99A4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051-EECF-4AFC-AEFF-E589FD34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6A7-A236-4F91-B69B-BBBB5288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255-72E7-4986-87EB-2CF593D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551-D559-4663-A1DE-F0B01117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73E5-D425-4B21-AFC4-0DA44B1F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340F-778E-485F-86FD-7E67743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8E7-B1B0-4B8A-8DFF-04E43D10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AAEE-6BAE-44AC-9FBC-275C5DF41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152280"/>
            <a:ext cx="8763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erlin Sans FB Demi"/>
              </a:rPr>
              <a:t>Using Technology for a More Differentiated Class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7524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 Praid &amp; Sarah Martab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0796000">
            <a:off x="1295280" y="2895120"/>
            <a:ext cx="122076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832800">
            <a:off x="4952520" y="2438280"/>
            <a:ext cx="142236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37400">
            <a:off x="3733920" y="4876560"/>
            <a:ext cx="2225520" cy="148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19686000">
            <a:off x="380880" y="4800240"/>
            <a:ext cx="1111320" cy="1676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172200" y="4267080"/>
            <a:ext cx="2676600" cy="2313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0319600">
            <a:off x="2742840" y="2971800"/>
            <a:ext cx="1981080" cy="130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0832600">
            <a:off x="1881360" y="4822560"/>
            <a:ext cx="1752480" cy="1400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 rot="1030200">
            <a:off x="6629040" y="2438280"/>
            <a:ext cx="2109960" cy="14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p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927600" cy="396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3048120"/>
            <a:ext cx="761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ff"/>
                </a:solidFill>
                <a:latin typeface="Arial"/>
              </a:rPr>
              <a:t>"Do not train youth to learn by harshness, but lead them to it by what amuses their minds.  Then you may discover the peculiar bent of the genius of each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Pl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4197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"I am always eager to learn, but I do not always like being taught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Winston 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"There is no recipe for differentiation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Carol Toml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905120"/>
            <a:ext cx="713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"Any time we see our curriculum as strictly coverage, then we probably won't differentiate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arol Tomlin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45720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Arial"/>
              </a:rPr>
              <a:t>"That students differ may be inconvenient, but it is inescapable."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Grant Wig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" nodeType="afterEffect" fill="hold" presetClass="entr" presetID="7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ric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352680" y="1371600"/>
            <a:ext cx="5257800" cy="2361960"/>
            <a:chOff x="3352680" y="1371600"/>
            <a:chExt cx="5257800" cy="2361960"/>
          </a:xfrm>
        </p:grpSpPr>
        <p:sp>
          <p:nvSpPr>
            <p:cNvPr id="68" name=""/>
            <p:cNvSpPr/>
            <p:nvPr/>
          </p:nvSpPr>
          <p:spPr>
            <a:xfrm>
              <a:off x="3352680" y="2133360"/>
              <a:ext cx="297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6248520" y="1371600"/>
              <a:ext cx="2361960" cy="236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533520" y="2133720"/>
            <a:ext cx="5715000" cy="2693880"/>
            <a:chOff x="533520" y="2133720"/>
            <a:chExt cx="5715000" cy="2693880"/>
          </a:xfrm>
        </p:grpSpPr>
        <p:sp>
          <p:nvSpPr>
            <p:cNvPr id="71" name=""/>
            <p:cNvSpPr/>
            <p:nvPr/>
          </p:nvSpPr>
          <p:spPr>
            <a:xfrm>
              <a:off x="2819520" y="3657240"/>
              <a:ext cx="3429000" cy="11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cess/Activit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33520" y="2133720"/>
              <a:ext cx="2133720" cy="210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1219320" y="4495680"/>
            <a:ext cx="6095880" cy="1981080"/>
            <a:chOff x="1219320" y="4495680"/>
            <a:chExt cx="6095880" cy="1981080"/>
          </a:xfrm>
        </p:grpSpPr>
        <p:sp>
          <p:nvSpPr>
            <p:cNvPr id="74" name=""/>
            <p:cNvSpPr/>
            <p:nvPr/>
          </p:nvSpPr>
          <p:spPr>
            <a:xfrm>
              <a:off x="1219320" y="556236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oduct/Assessm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334120" y="4495680"/>
              <a:ext cx="198108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419720" y="1447920"/>
            <a:ext cx="4146480" cy="2666880"/>
            <a:chOff x="4419720" y="1447920"/>
            <a:chExt cx="4146480" cy="26668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781680" y="1447920"/>
              <a:ext cx="17845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419720" y="1752480"/>
              <a:ext cx="2514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Readines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14400" y="2209680"/>
            <a:ext cx="4391280" cy="1694160"/>
            <a:chOff x="914400" y="2209680"/>
            <a:chExt cx="4391280" cy="169416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914400" y="2209680"/>
              <a:ext cx="2514600" cy="16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430440" y="3200400"/>
              <a:ext cx="187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Interes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752480" y="4495680"/>
            <a:ext cx="5751360" cy="1878120"/>
            <a:chOff x="1752480" y="4495680"/>
            <a:chExt cx="5751360" cy="1878120"/>
          </a:xfrm>
        </p:grpSpPr>
        <p:sp>
          <p:nvSpPr>
            <p:cNvPr id="84" name=""/>
            <p:cNvSpPr/>
            <p:nvPr/>
          </p:nvSpPr>
          <p:spPr>
            <a:xfrm>
              <a:off x="4727880" y="5029200"/>
              <a:ext cx="277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Learning Sty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1752480" y="4495680"/>
              <a:ext cx="2819520" cy="1878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justing Ques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mpacting Curricul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red Assign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eleration/Deceler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xible Group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er Te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Profiles/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25146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Inte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ding Buddi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pendent Study Pro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uddy-Studi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Contra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Learning Cen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choring Activ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632448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mbers.shaw.ca/priscillatheroux/differentiatingstrateg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57800" y="152280"/>
            <a:ext cx="320040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466920" y="2317320"/>
            <a:ext cx="3853800" cy="3653280"/>
            <a:chOff x="466920" y="2317320"/>
            <a:chExt cx="3853800" cy="3653280"/>
          </a:xfrm>
        </p:grpSpPr>
        <p:sp>
          <p:nvSpPr>
            <p:cNvPr id="92" name=""/>
            <p:cNvSpPr/>
            <p:nvPr/>
          </p:nvSpPr>
          <p:spPr>
            <a:xfrm rot="19022400">
              <a:off x="69480" y="3812040"/>
              <a:ext cx="4647960" cy="663480"/>
            </a:xfrm>
            <a:prstGeom prst="rect">
              <a:avLst/>
            </a:prstGeom>
            <a:solidFill>
              <a:srgbClr val="f7f23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22400">
              <a:off x="127800" y="3962880"/>
              <a:ext cx="4114440" cy="459720"/>
            </a:xfrm>
            <a:prstGeom prst="rect">
              <a:avLst/>
            </a:prstGeom>
            <a:solidFill>
              <a:srgbClr val="f7f2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4.  Technology’s Impac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019920" y="838080"/>
            <a:ext cx="1182600" cy="2286000"/>
            <a:chOff x="6019920" y="838080"/>
            <a:chExt cx="1182600" cy="228600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019920" y="838080"/>
              <a:ext cx="11826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456600" y="914040"/>
              <a:ext cx="2491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457200" y="533520"/>
            <a:ext cx="502920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581280" y="3124080"/>
            <a:ext cx="5715000" cy="1143000"/>
            <a:chOff x="3581280" y="3124080"/>
            <a:chExt cx="5715000" cy="1143000"/>
          </a:xfrm>
        </p:grpSpPr>
        <p:sp>
          <p:nvSpPr>
            <p:cNvPr id="99" name=""/>
            <p:cNvSpPr/>
            <p:nvPr/>
          </p:nvSpPr>
          <p:spPr>
            <a:xfrm>
              <a:off x="4038480" y="3124080"/>
              <a:ext cx="5105520" cy="6858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581280" y="3581280"/>
              <a:ext cx="5715000" cy="685800"/>
              <a:chOff x="3581280" y="3581280"/>
              <a:chExt cx="5715000" cy="685800"/>
            </a:xfrm>
          </p:grpSpPr>
          <p:sp>
            <p:nvSpPr>
              <p:cNvPr id="101" name=""/>
              <p:cNvSpPr/>
              <p:nvPr/>
            </p:nvSpPr>
            <p:spPr>
              <a:xfrm>
                <a:off x="3581280" y="3581280"/>
                <a:ext cx="5562720" cy="6858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33920" y="3657600"/>
                <a:ext cx="55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3. What: Strategies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lanning 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438280" y="4114800"/>
            <a:ext cx="6705720" cy="1219320"/>
            <a:chOff x="2438280" y="4114800"/>
            <a:chExt cx="6705720" cy="1219320"/>
          </a:xfrm>
        </p:grpSpPr>
        <p:sp>
          <p:nvSpPr>
            <p:cNvPr id="105" name=""/>
            <p:cNvSpPr/>
            <p:nvPr/>
          </p:nvSpPr>
          <p:spPr>
            <a:xfrm>
              <a:off x="3124080" y="4114800"/>
              <a:ext cx="601992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2438280" y="4648320"/>
              <a:ext cx="6705720" cy="685800"/>
              <a:chOff x="2438280" y="4648320"/>
              <a:chExt cx="6705720" cy="685800"/>
            </a:xfrm>
          </p:grpSpPr>
          <p:sp>
            <p:nvSpPr>
              <p:cNvPr id="107" name=""/>
              <p:cNvSpPr/>
              <p:nvPr/>
            </p:nvSpPr>
            <p:spPr>
              <a:xfrm>
                <a:off x="2438280" y="4648320"/>
                <a:ext cx="6705720" cy="6858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0920" y="472428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2.  How: Style, readiness, or interest?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219320" y="5257800"/>
            <a:ext cx="7924680" cy="1219320"/>
            <a:chOff x="1219320" y="5257800"/>
            <a:chExt cx="7924680" cy="1219320"/>
          </a:xfrm>
        </p:grpSpPr>
        <p:sp>
          <p:nvSpPr>
            <p:cNvPr id="110" name=""/>
            <p:cNvSpPr/>
            <p:nvPr/>
          </p:nvSpPr>
          <p:spPr>
            <a:xfrm>
              <a:off x="1828800" y="5257800"/>
              <a:ext cx="7315200" cy="6858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219320" y="5791320"/>
              <a:ext cx="7924680" cy="685800"/>
              <a:chOff x="1219320" y="5791320"/>
              <a:chExt cx="7924680" cy="685800"/>
            </a:xfrm>
          </p:grpSpPr>
          <p:sp>
            <p:nvSpPr>
              <p:cNvPr id="112" name=""/>
              <p:cNvSpPr/>
              <p:nvPr/>
            </p:nvSpPr>
            <p:spPr>
              <a:xfrm>
                <a:off x="1219320" y="5791320"/>
                <a:ext cx="7924680" cy="685800"/>
              </a:xfrm>
              <a:prstGeom prst="rect">
                <a:avLst/>
              </a:prstGeom>
              <a:solidFill>
                <a:srgbClr val="66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371600" y="5867280"/>
                <a:ext cx="6400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1.  Where:  Content, process, product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technology conn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5081760" y="382680"/>
            <a:ext cx="5820480" cy="5787720"/>
            <a:chOff x="-5081760" y="382680"/>
            <a:chExt cx="5820480" cy="578772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0" t="0" r="48638" b="19167"/>
            <a:stretch/>
          </p:blipFill>
          <p:spPr>
            <a:xfrm rot="1645200">
              <a:off x="-4343040" y="1143000"/>
              <a:ext cx="4343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 rot="21148200">
              <a:off x="-4114440" y="2971080"/>
              <a:ext cx="310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Differenti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8372880" y="441000"/>
            <a:ext cx="5657400" cy="5969160"/>
            <a:chOff x="8372880" y="441000"/>
            <a:chExt cx="5657400" cy="596916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rcRect l="50914" t="11451" r="0" b="0"/>
            <a:stretch/>
          </p:blipFill>
          <p:spPr>
            <a:xfrm rot="20187000">
              <a:off x="9144000" y="1066320"/>
              <a:ext cx="4114800" cy="471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3187800">
              <a:off x="9853920" y="3279960"/>
              <a:ext cx="304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13 0.05254 C -0.00642 0.19305 -0.00712 0.39143 0.03611 0.39259 C 0.09479 0.3993 0.13889 -0.2581 0.21181 -0.25232 C 0.27431 -0.2456 0.20521 0.32546 0.26701 0.33009 C 0.33177 0.33703 0.32188 -0.08357 0.39184 -0.07616 C 0.45278 -0.06945 0.40191 0.20833 0.45694 0.21273 C 0.51024 0.21991 0.49601 0.00208 0.54427 0.00671 C 0.57205 0.00972 0.56962 0.06898 0.57014 0.11435 E">
                                      <p:cBhvr>
                                        <p:cTn id="96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97 0.03541 C 0.22604 -0.07732 0.19826 -0.23473 0.13889 -0.22454 C 0.05295 -0.21343 0.08559 0.3206 -0.01701 0.33588 C -0.10937 0.34768 -0.0934 -0.12454 -0.18194 -0.11135 C -0.27569 -0.09931 -0.20104 0.23217 -0.30035 0.2449 C -0.38941 0.25625 -0.35677 0.02199 -0.43594 0.0324 C -0.51215 0.04236 -0.4592 0.21111 -0.52882 0.2206 C -0.5684 0.22569 -0.57413 0.17801 -0.58125 0.14213 E">
                                      <p:cBhvr>
                                        <p:cTn id="99" dur="5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027600" cy="3819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martabano</cp:lastModifiedBy>
  <dcterms:modified xsi:type="dcterms:W3CDTF">2008-01-30T17:09:58Z</dcterms:modified>
  <cp:revision>40</cp:revision>
  <dc:subject/>
  <dc:title>PowerPoint Presentation</dc:title>
</cp:coreProperties>
</file>